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6FA-DEB7-494D-B2B8-87632238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BB7-E1EE-4236-995E-AE904154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5AE-D911-469A-AA1D-A884E9E5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A0B-B6CD-4785-9EE0-01D3E94A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842-12D4-4F40-8202-00D87392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7E4-FD05-43EA-BC80-F49DD9D7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6EC-9211-4C56-A901-F6433428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9510-C11C-4126-B266-B9B248D5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B2B-223F-422F-89B3-485C3E72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F8C-FC56-428F-B4C8-709FD047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6FD-2D2D-413E-A886-F3EFC49F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221-9C19-4FC0-9008-272C0C64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BE41-327A-4ADB-9DEB-63230A00B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333360"/>
            <a:ext cx="30970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чин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картин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308720" y="333360"/>
            <a:ext cx="13906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5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3068640"/>
            <a:ext cx="777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.А. Пластова "ЛЕТОМ.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4360" y="407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Сочин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от древнерус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ЧИ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ОРЯДОК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ДЛЯ ЧЕГО НЕОБХОДИМО СОБЛЮДАТЬ ПОРЯД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 ПИСЬМЕННОМ И УСТНОМ СООБЩ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8280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 картинах А.А. Пластова много красок, цветовых тканей, живописных подробностей и дета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мной простотой и естественностью дышит поло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олодую героиню успокаивает ликующая природа, полная тепла и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 композиции полотна нет ничего случайного, второстепенного, не откликающегося на общ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нутренняя связность, ритмическая согласованность всех частей, цветовая выразительность- все эти качества полноценного жудожественного произведения проявились на полот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но по праву может называться шедевром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33-plastov"/>
          <p:cNvPicPr/>
          <p:nvPr/>
        </p:nvPicPr>
        <p:blipFill>
          <a:blip r:embed="rId2"/>
          <a:stretch/>
        </p:blipFill>
        <p:spPr>
          <a:xfrm>
            <a:off x="5076720" y="115920"/>
            <a:ext cx="2724120" cy="36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Text Box 8"/>
          <p:cNvSpPr/>
          <p:nvPr/>
        </p:nvSpPr>
        <p:spPr>
          <a:xfrm>
            <a:off x="3816360" y="3789360"/>
            <a:ext cx="532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Работы этого художника есть  в Иркутске, Барнауле,Астрахани, Екатеринбурге, Курске, Перми, Одессе, Челябинске,но более всего его произведений находится в Государственной Третьяковской галерее, в Русском музее, в Ульяновском областном художественном муз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rtlib_gallery-16519-b"/>
          <p:cNvPicPr/>
          <p:nvPr/>
        </p:nvPicPr>
        <p:blipFill>
          <a:blip r:embed="rId3"/>
          <a:stretch/>
        </p:blipFill>
        <p:spPr>
          <a:xfrm rot="20937000">
            <a:off x="178920" y="475920"/>
            <a:ext cx="4105440" cy="2887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4" name=""/>
          <p:cNvSpPr txBox="1"/>
          <p:nvPr/>
        </p:nvSpPr>
        <p:spPr>
          <a:xfrm>
            <a:off x="179280" y="115920"/>
            <a:ext cx="209556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Родник"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5" descr="artlib_gallery-16784-b"/>
          <p:cNvPicPr/>
          <p:nvPr/>
        </p:nvPicPr>
        <p:blipFill>
          <a:blip r:embed="rId4"/>
          <a:stretch/>
        </p:blipFill>
        <p:spPr>
          <a:xfrm>
            <a:off x="108000" y="3573360"/>
            <a:ext cx="3744720" cy="2811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179280" y="3213000"/>
            <a:ext cx="2343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енокос"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424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«БЫТЬ ТОЛЬКО ЖИВОПИСЦ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И НИКЕМ БОЛЕЕ!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решил Аркадий Пластов еще в дет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Аркадий Александрович Пластов работал много и увлеченно. Пластов тонко передает поэзию сельского труда, единого с миром живой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Художник не писал людей, которые у него лично не вызывали глубокой симпат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По-особому он относился к детям, трогательно, но без слащавой умильности, изображая подростков, точно угадывал особенности каждого возра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В картинах Аркадий Александрович передает прекрасные фрагменты человеческой жизни, душевный подъем людей, ощущающих себя частью неисчерпаемой, могучей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Художник всеми силами души служит правде, он никогда не подправлял природу, изображал ее творения и состояния без исправлений в лучшую и приятную для глаз ст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Его персонажи почти всегда движущиеся, жи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5"/>
          <p:cNvGraphicFramePr/>
          <p:nvPr/>
        </p:nvGraphicFramePr>
        <p:xfrm>
          <a:off x="395280" y="1484280"/>
          <a:ext cx="3998880" cy="334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84280"/>
                    <a:ext cx="3998880" cy="33433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" name="WordArt 7"/>
          <p:cNvSpPr txBox="1"/>
          <p:nvPr/>
        </p:nvSpPr>
        <p:spPr>
          <a:xfrm>
            <a:off x="1692360" y="260280"/>
            <a:ext cx="61434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творческое кредо худож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932360" y="177336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, не пейзаж влечет мен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427640" y="2133720"/>
            <a:ext cx="47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краски жадный взор подмен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4500720" y="2565360"/>
            <a:ext cx="44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то, что в этих красках свет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643280" y="299736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юбовь и радость б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plastov_111"/>
          <p:cNvPicPr/>
          <p:nvPr/>
        </p:nvPicPr>
        <p:blipFill>
          <a:blip r:embed="rId2"/>
          <a:stretch/>
        </p:blipFill>
        <p:spPr>
          <a:xfrm>
            <a:off x="250920" y="1125360"/>
            <a:ext cx="3197160" cy="460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Text Box 7"/>
          <p:cNvSpPr/>
          <p:nvPr/>
        </p:nvSpPr>
        <p:spPr>
          <a:xfrm>
            <a:off x="611280" y="26028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А.А. Пластов.« Летом». 1954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635280" y="39337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На картине я вижу мать и дочь. Женщина в синем платье, наверное, она очень устала, собирая грибы и ягоды. Она лежит на траве, закрыв лицо натруженной рукой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635280" y="765000"/>
            <a:ext cx="55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Что привлекает ваше внимание в карт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3635280" y="1773360"/>
            <a:ext cx="55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Солнечная полянка, сидящая девочка, уставшая женщин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3564000" y="2924280"/>
            <a:ext cx="53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Arial"/>
              </a:rPr>
              <a:t>Кто изображен на картине? Опишите каждого более подроб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8900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Почему, по-вашему, художник так  отчетливо изобразил руки женщины? Какие о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907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уки у женщины загорелые, сильные, натруженные. Видно, что она много работает. Художник хотел показать нам труженицу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05880" y="1557360"/>
            <a:ext cx="36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Давайте опишем девочку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50920" y="198900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Девочк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ей можно дать имя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сидит на траве, о чем-то думает, обрывая ягодки с ветки, и бросает в кружечку, ноги она вытянула, т.к. устала от долгой ходьбы по лесу, девочка босая, на ней белое платье и красная косыночк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748440" y="3213000"/>
            <a:ext cx="57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Какие же цвета использовал А.А. Пластов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179280" y="357336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Теплые – т.к. художник хотел передать хорошее и радостное настроени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677160" y="4292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Какое впечатление произвела на вас картин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0" y="5013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Глядя на картину, вспоминаю жаркое лето, вдыхаю запах ягод и цветов, создается впечатление, что я нахожусь там, на этой прекрасной полянке, где расположились грибники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9"/>
          <p:cNvSpPr/>
          <p:nvPr/>
        </p:nvSpPr>
        <p:spPr>
          <a:xfrm>
            <a:off x="3636720" y="8316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2627280" y="9068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. Слово о худож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2627280" y="198792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. Описание карт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2623320" y="2923200"/>
            <a:ext cx="359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а) люди и собака;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б) корзина, ведро, кувшин;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в) поля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2410920" y="465192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. Мое впечатление от карт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lastov_111"/>
          <p:cNvPicPr/>
          <p:nvPr/>
        </p:nvPicPr>
        <p:blipFill>
          <a:blip r:embed="rId2"/>
          <a:srcRect l="0" t="0" r="0" b="1205"/>
          <a:stretch/>
        </p:blipFill>
        <p:spPr>
          <a:xfrm>
            <a:off x="6588000" y="1052640"/>
            <a:ext cx="2306880" cy="3284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0000"/>
                </a:solidFill>
                <a:uFillTx/>
                <a:latin typeface="Arial"/>
              </a:rPr>
              <a:t>Тематические группы сл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уществи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рилага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Глаголы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ареч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Подобрать синонимы к слов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План. Рабочие материа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Прослушивание вариантов устных опис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План рецензии(отзыва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.Раскрыта ли те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.Последовательно ли изложен матери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Какие языковые средства использова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.Выражено ли личное отношение рассказчика к карти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800000"/>
                </a:solidFill>
                <a:latin typeface="Arial"/>
              </a:rPr>
              <a:t>ЛЕТОМ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по картине А.А. Пластова «Летом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(какой?) полдень. Жарко. В (какой?)  тени (каких?) берез расположились на отдых усталые путники-гриб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Женщина прилегла на (какую?) траву и сразу уснула. Девочка в (каком?) платочке устроилась рядом. Она собирает (какую?) малину с кустика и кладет в кружку. Около нее дремлет (какой?) п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В (каком?) кувшине краснеют ягоды (какой?) малины. Корзины полны (чего?), (каких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 rot="5400000">
            <a:off x="-2717640" y="3085920"/>
            <a:ext cx="6327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ТВОРЧЕСКОЕ ЗАДАНИ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06:16:48Z</dcterms:created>
  <dc:creator>USER</dc:creator>
  <dc:description/>
  <dc:language>en-US</dc:language>
  <cp:lastModifiedBy>XP GAME 2007</cp:lastModifiedBy>
  <dcterms:modified xsi:type="dcterms:W3CDTF">2009-01-29T21:10:44Z</dcterms:modified>
  <cp:revision>4</cp:revision>
  <dc:subject/>
  <dc:title>Слайд 1</dc:title>
</cp:coreProperties>
</file>